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70B-1072-4C35-B62F-BD020277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32D-0776-4304-B8DA-1082FB8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836-3430-4C29-A67F-A645E557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432-DEC8-4EB0-9D9E-99356354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49944-B49F-4385-B25A-63663BCC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53BA5-EF86-4F94-B985-979EE10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6A1FE-6AD4-44BE-AED8-05FC6DF8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4A6D2-2944-4260-95A8-350D6A7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7785D-C849-4794-B60C-92A9FFDE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733A6-91A0-4587-A3A8-60F5BA0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2DC61-8510-4DB4-962C-335D96D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A80-A13B-494C-A03B-51CBAB4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D24D8-D7D2-4A33-A3D3-BAEF2AB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B4351-54F2-41B6-AD8E-96AC9A9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3E1C7-0C18-4A1A-B37A-2AFB59C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1344-0899-4CDD-8E5E-2FA459A2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BDD70-C12D-4A9F-84E2-4BD6A949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401-2B3D-42FC-97E4-1C4F4C20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DDF-D3D0-4ADE-BF7E-6E46405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39F-CF32-4EF9-B93F-5801B365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FEF-2FD4-41BC-8257-8F83E4CF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8CE-7288-4CFB-A14F-722CA58C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455-FD3F-4CE9-B827-3DD6C57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44E-F9B1-463A-94EC-CAE800E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13B-1933-4E1B-A64D-34022AFED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093-9D20-4207-9946-5A4C48D13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Walk in the Desert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 Amazing Wo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pe formed on land like hills, mountains, lakes, and des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43450000[1]"/>
          <p:cNvPicPr/>
          <p:nvPr/>
        </p:nvPicPr>
        <p:blipFill>
          <a:blip r:embed="rId1"/>
          <a:stretch/>
        </p:blipFill>
        <p:spPr>
          <a:xfrm>
            <a:off x="6324480" y="2895480"/>
            <a:ext cx="1841760" cy="12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Pj04340860000[1]"/>
          <p:cNvPicPr/>
          <p:nvPr/>
        </p:nvPicPr>
        <p:blipFill>
          <a:blip r:embed="rId2"/>
          <a:stretch/>
        </p:blipFill>
        <p:spPr>
          <a:xfrm>
            <a:off x="533520" y="2743200"/>
            <a:ext cx="2514600" cy="251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Blue hills"/>
          <p:cNvPicPr/>
          <p:nvPr/>
        </p:nvPicPr>
        <p:blipFill>
          <a:blip r:embed="rId3"/>
          <a:stretch/>
        </p:blipFill>
        <p:spPr>
          <a:xfrm>
            <a:off x="35053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kind of rain, snow, hail, or other form of water that comes down from the clouds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MCj02788500000[1]"/>
          <p:cNvPicPr/>
          <p:nvPr/>
        </p:nvPicPr>
        <p:blipFill>
          <a:blip r:embed="rId1"/>
          <a:stretch/>
        </p:blipFill>
        <p:spPr>
          <a:xfrm>
            <a:off x="4114800" y="3098880"/>
            <a:ext cx="312408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ll of sand in a des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MPj0424385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35816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f or an over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MCBD09077_0000[1]"/>
          <p:cNvPicPr/>
          <p:nvPr/>
        </p:nvPicPr>
        <p:blipFill>
          <a:blip r:embed="rId1"/>
          <a:stretch/>
        </p:blipFill>
        <p:spPr>
          <a:xfrm>
            <a:off x="3276720" y="2514600"/>
            <a:ext cx="437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v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f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ove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someone finds out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MMj02867660000[1]"/>
          <p:cNvPicPr/>
          <p:nvPr/>
        </p:nvPicPr>
        <p:blipFill>
          <a:blip r:embed="rId1"/>
          <a:stretch/>
        </p:blipFill>
        <p:spPr>
          <a:xfrm>
            <a:off x="3429000" y="2666880"/>
            <a:ext cx="2305080" cy="22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bid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dangerous and sc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Cj03315770000[1]"/>
          <p:cNvPicPr/>
          <p:nvPr/>
        </p:nvPicPr>
        <p:blipFill>
          <a:blip r:embed="rId1"/>
          <a:stretch/>
        </p:blipFill>
        <p:spPr>
          <a:xfrm>
            <a:off x="3691080" y="2530440"/>
            <a:ext cx="2100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ce without water or trees but with a lot of 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MPj04243860000[1]"/>
          <p:cNvPicPr/>
          <p:nvPr/>
        </p:nvPicPr>
        <p:blipFill>
          <a:blip r:embed="rId1"/>
          <a:stretch/>
        </p:blipFill>
        <p:spPr>
          <a:xfrm>
            <a:off x="4724280" y="2590920"/>
            <a:ext cx="27957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rough, unpleasant, and un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j0237922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554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weather a place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MCj03351920000[1]"/>
          <p:cNvPicPr/>
          <p:nvPr/>
        </p:nvPicPr>
        <p:blipFill>
          <a:blip r:embed="rId1"/>
          <a:stretch/>
        </p:blipFill>
        <p:spPr>
          <a:xfrm>
            <a:off x="2514600" y="2362320"/>
            <a:ext cx="42512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t with sharp parts but no leaves; most live in very hot, dry areas of North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Cj0413604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2819520" cy="27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Pj04224930000[1]"/>
          <p:cNvPicPr/>
          <p:nvPr/>
        </p:nvPicPr>
        <p:blipFill>
          <a:blip r:embed="rId2"/>
          <a:stretch/>
        </p:blipFill>
        <p:spPr>
          <a:xfrm>
            <a:off x="1600200" y="3200400"/>
            <a:ext cx="177948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animal that looks something like a wo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332306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88612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nd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d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bid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very, ver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MPj04022580000[1]"/>
          <p:cNvPicPr/>
          <p:nvPr/>
        </p:nvPicPr>
        <p:blipFill>
          <a:blip r:embed="rId1"/>
          <a:stretch/>
        </p:blipFill>
        <p:spPr>
          <a:xfrm>
            <a:off x="2666880" y="22860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6:54Z</dcterms:created>
  <dc:creator> </dc:creator>
  <dc:description/>
  <dc:language>en-US</dc:language>
  <cp:lastModifiedBy>Laura McDow</cp:lastModifiedBy>
  <dcterms:modified xsi:type="dcterms:W3CDTF">2010-09-02T15:14:02Z</dcterms:modified>
  <cp:revision>3</cp:revision>
  <dc:subject/>
  <dc:title>A Walk in the Desert Vocabulary and Amazing Words</dc:title>
</cp:coreProperties>
</file>